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CDC-8443-4840-807D-C7376A66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A67-C07B-4146-8EED-17D89D93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BA9-FEBC-489F-967C-1D67125E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C8D-2B59-4DE6-8437-C3F45ACA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E8B-2C8D-4D6C-8D7E-1C48CAD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507-3949-44BF-A7D5-4A23628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2C9-072F-47D7-8129-C65AFC8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0D6-BF21-4891-A22B-656A9C4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96E-057D-4E4F-9E78-54755D0A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207-B3D9-4C74-9DBC-F992B46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FA5-4CE0-41AE-A1DD-D925CE61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899-990C-4105-8B3E-F38F2681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CB19-4694-44FC-A012-8633B3C02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hyperlink" Target="http://images.google.ro/imgres?imgurl=http://jpn.cec.eu.int/data/local/20040727042030_3.jpg&amp;imgrefurl=http://jpn.cec.eu.int/union/showpage_en_union.emu.php&amp;h=306&amp;w=274&amp;sz=31&amp;hl=ro&amp;start=5&amp;tbnid=FM_lWczS6fvXvM:&amp;tbnh=117&amp;tbnw=105&amp;prev=/images%3Fq%3DEuro%26ndsp%3D18%26svnum%3D10%26hl%3Dro%26sa%3DN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ROMANIA</a:t>
            </a:r>
            <a:br>
              <a:rPr sz="4800"/>
            </a:b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TARA EUROPEANA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68360" y="2133720"/>
          <a:ext cx="428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33720"/>
                    <a:ext cx="428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11430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10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1159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ARLAMENTUL EUROPEAN 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ASBO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76840" y="3352680"/>
            <a:ext cx="5267160" cy="350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877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DIUL PARLAMENTULU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UROPEAN DIN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76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83808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3333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5440" y="4005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STEAG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1981440" cy="14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M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3530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Cat de bine cunostem Uniunea Europea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 si rolul Romaniei in cadrul aceste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2102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“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Va veni o zi când voi francezii, voi rusii, voi italienii, voi englezii, voi germanii, voi toate naţiunile continentului, fără să vă pierdeţi calităţile distincte şi glorioasa voastră individualitate, veţi fonda împreună o uniune superioară şi veţi construi fraternitatea european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(Victor Hugo, 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844640"/>
            <a:ext cx="2519280" cy="2448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81360"/>
            <a:ext cx="3384360" cy="2808360"/>
          </a:xfrm>
          <a:prstGeom prst="ellipse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en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5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În prezent, Uniunea are 27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membri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843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cc00"/>
                </a:solidFill>
                <a:latin typeface="Verdana"/>
              </a:rPr>
              <a:t>VALORILE UNIUNI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9700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1. Demnitatea uman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2. Libertatea individ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3. Democraţi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4. Egalitate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5. Statul de dr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6. Respectarea drepturilor o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33360"/>
            <a:ext cx="76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Verdana"/>
              </a:rPr>
              <a:t>1 ianuarie 2007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aderarea la U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0066"/>
                </a:solidFill>
                <a:latin typeface="Verdana"/>
              </a:rPr>
              <a:t>România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devine </a:t>
            </a:r>
            <a:r>
              <a:rPr b="0" lang="ro-RO" sz="2800" spc="-1" strike="noStrike" u="sng">
                <a:solidFill>
                  <a:srgbClr val="cc0000"/>
                </a:solidFill>
                <a:uFillTx/>
                <a:latin typeface="Verdana"/>
              </a:rPr>
              <a:t>stat memb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20:20:36Z</dcterms:created>
  <dc:creator>simi</dc:creator>
  <dc:description/>
  <dc:language>en-US</dc:language>
  <cp:lastModifiedBy>Elev-2</cp:lastModifiedBy>
  <dcterms:modified xsi:type="dcterms:W3CDTF">2010-07-09T09:32:56Z</dcterms:modified>
  <cp:revision>4</cp:revision>
  <dc:subject/>
  <dc:title>ROMANIA TARA EUROPEANA  </dc:title>
</cp:coreProperties>
</file>