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1305-C19D-4169-9C70-7DE8BBB79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BB75-86C3-4E26-A768-58F45945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9CC3-5C9A-45DF-829A-BCB9DE1C7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6B21-B6EB-40F3-A02F-CA76D34A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708-8B18-4C9A-A70E-5AFAC8CC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C42-DC14-495E-8125-DC14E270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EF47-C60F-42A9-94AB-DA49B53A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082-2B95-48F9-AD9D-9CDA9551A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36F0-8269-4991-B556-5CA9E115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2DF-A20B-435E-AEEE-ACF43FC3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0F0-6280-405B-A989-9CEB6895D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B1D5-D7FE-46A8-840B-0341B8D9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36B0-8BC1-4478-B8E9-2CA1A5954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hyperlink" Target="http://images.google.ro/imgres?imgurl=http://jpn.cec.eu.int/data/local/20040727042030_3.jpg&amp;imgrefurl=http://jpn.cec.eu.int/union/showpage_en_union.emu.php&amp;h=306&amp;w=274&amp;sz=31&amp;hl=ro&amp;start=5&amp;tbnid=FM_lWczS6fvXvM:&amp;tbnh=117&amp;tbnw=105&amp;prev=/images%3Fq%3DEuro%26ndsp%3D18%26svnum%3D10%26hl%3Dro%26sa%3DN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333399"/>
                </a:solidFill>
                <a:latin typeface="Century Schoolbook"/>
              </a:rPr>
              <a:t>ROMANIA</a:t>
            </a:r>
            <a:br>
              <a:rPr sz="4800"/>
            </a:br>
            <a:r>
              <a:rPr b="0" lang="ro-RO" sz="4800" spc="-1" strike="noStrike">
                <a:solidFill>
                  <a:srgbClr val="333399"/>
                </a:solidFill>
                <a:latin typeface="Century Schoolbook"/>
              </a:rPr>
              <a:t>TARA EUROPEANA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68360" y="2133720"/>
          <a:ext cx="4280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133720"/>
                    <a:ext cx="4280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1143000" cy="87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00200" y="228600"/>
            <a:ext cx="114300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4102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48000" y="11592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PARLAMENTUL EUROPEAN 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TRASBO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76840" y="3352680"/>
            <a:ext cx="5267160" cy="3505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58770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DIUL PARLAMENTULUI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UROPEAN DIN BRUX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5640" y="765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49236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58000" y="8380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838080"/>
            <a:ext cx="1709640" cy="1905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40360" y="333360"/>
            <a:ext cx="163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entury Schoolbook"/>
              </a:rPr>
              <a:t>MON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5440" y="4005360"/>
            <a:ext cx="13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entury Schoolbook"/>
              </a:rPr>
              <a:t>STEAG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638680" y="4572000"/>
            <a:ext cx="1981440" cy="1484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886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MN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809880" cy="2819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353040" cy="2549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20040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ff"/>
                </a:solidFill>
                <a:latin typeface="Century Schoolbook"/>
              </a:rPr>
              <a:t>Cat de bine cunostem Uniunea Europea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na</a:t>
            </a:r>
            <a:r>
              <a:rPr b="0" lang="ro-RO" sz="3600" spc="-1" strike="noStrike">
                <a:solidFill>
                  <a:srgbClr val="0000ff"/>
                </a:solidFill>
                <a:latin typeface="Century Schoolbook"/>
              </a:rPr>
              <a:t> si rolul Romaniei in cadrul aceste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42102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“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Va veni o zi când voi francezii, voi rusii, voi italienii, voi englezii, voi germanii, voi toate naţiunile continentului, fără să vă pierdeţi calităţile distincte şi glorioasa voastră individualitate, veţi fonda împreună o uniune superioară şi veţi construi fraternitatea european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                                   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(Victor Hugo, 18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32000" y="1844640"/>
            <a:ext cx="2519280" cy="24480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781360"/>
            <a:ext cx="3384360" cy="2808360"/>
          </a:xfrm>
          <a:prstGeom prst="ellipse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907920"/>
            <a:ext cx="23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ent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1592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În prezent, Uniunea are 27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de</a:t>
            </a: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 membri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24000" y="1843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9cc00"/>
                </a:solidFill>
                <a:latin typeface="Verdana"/>
              </a:rPr>
              <a:t>VALORILE UNIUNII EUROP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197000"/>
            <a:ext cx="777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1. Demnitatea uman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2. Libertatea individ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3. Democraţi</a:t>
            </a: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4. Egalitate</a:t>
            </a: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5. Statul de dr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 </a:t>
            </a: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6. Respectarea drepturilor om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333360"/>
            <a:ext cx="768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Verdana"/>
              </a:rPr>
              <a:t>1 ianuarie 2007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aderarea la UE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ro-RO" sz="2800" spc="-1" strike="noStrike">
                <a:solidFill>
                  <a:srgbClr val="ff0066"/>
                </a:solidFill>
                <a:latin typeface="Verdana"/>
              </a:rPr>
              <a:t>România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devine </a:t>
            </a:r>
            <a:r>
              <a:rPr b="0" lang="ro-RO" sz="2800" spc="-1" strike="noStrike" u="sng">
                <a:solidFill>
                  <a:srgbClr val="cc0000"/>
                </a:solidFill>
                <a:uFillTx/>
                <a:latin typeface="Verdana"/>
              </a:rPr>
              <a:t>stat memb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20:20:36Z</dcterms:created>
  <dc:creator>simi</dc:creator>
  <dc:description/>
  <dc:language>en-US</dc:language>
  <cp:lastModifiedBy>Elev-2</cp:lastModifiedBy>
  <dcterms:modified xsi:type="dcterms:W3CDTF">2010-07-09T09:32:56Z</dcterms:modified>
  <cp:revision>4</cp:revision>
  <dc:subject/>
  <dc:title>ROMANIA TARA EUROPEANA  </dc:title>
</cp:coreProperties>
</file>