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jpeg" ContentType="image/jpeg"/>
  <Override PartName="/ppt/media/image9.png" ContentType="image/pn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16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32F6-FABB-4693-8582-79EEB4FA5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B7EC-2454-4061-AABB-63F21369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AB46-9671-4617-AAA1-7545EB7FD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AE78-B038-403E-B084-5DAABD301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45CD-C508-44BF-8EDC-00E2EF80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8D2A-6B5F-462B-8181-323C45AA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26EC-8F8E-46D1-BEB2-662EA878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231C-B231-4E97-9E80-576FE514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C12F-FC55-45C7-BA65-C374DAE9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0F8C-3069-4259-81F6-9E3A7751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BACE-6794-473B-91B9-27B4E13F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FD1E-5D87-43AF-8825-871CBD40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919C-18B8-49B4-8F18-FE024F188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hyperlink" Target="http://images.google.ro/imgres?imgurl=http://jpn.cec.eu.int/data/local/20040727042030_3.jpg&amp;imgrefurl=http://jpn.cec.eu.int/union/showpage_en_union.emu.php&amp;h=306&amp;w=274&amp;sz=31&amp;hl=ro&amp;start=5&amp;tbnid=FM_lWczS6fvXvM:&amp;tbnh=117&amp;tbnw=105&amp;prev=/images%3Fq%3DEuro%26ndsp%3D18%26svnum%3D10%26hl%3Dro%26sa%3DN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333399"/>
                </a:solidFill>
                <a:latin typeface="Century Schoolbook"/>
              </a:rPr>
              <a:t>ROMANIA</a:t>
            </a:r>
            <a:br>
              <a:rPr sz="4800"/>
            </a:br>
            <a:r>
              <a:rPr b="0" lang="ro-RO" sz="4800" spc="-1" strike="noStrike">
                <a:solidFill>
                  <a:srgbClr val="333399"/>
                </a:solidFill>
                <a:latin typeface="Century Schoolbook"/>
              </a:rPr>
              <a:t>TARA EUROPEANA</a:t>
            </a:r>
            <a:br>
              <a:rPr sz="4000"/>
            </a:br>
            <a:r>
              <a:rPr b="0" lang="en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268360" y="2133720"/>
          <a:ext cx="42800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2133720"/>
                    <a:ext cx="42800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629400" y="228600"/>
            <a:ext cx="1143000" cy="870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600200" y="228600"/>
            <a:ext cx="114300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9640" cy="4102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348000" y="115920"/>
            <a:ext cx="56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PARLAMENTUL EUROPEAN 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STRASBO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76840" y="3352680"/>
            <a:ext cx="5267160" cy="3505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587700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SEDIUL PARLAMENTULUI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EUROPEAN DIN BRUX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55640" y="76500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349236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858000" y="8380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838080"/>
            <a:ext cx="1709640" cy="1905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140360" y="333360"/>
            <a:ext cx="163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entury Schoolbook"/>
              </a:rPr>
              <a:t>MON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05440" y="4005360"/>
            <a:ext cx="137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entury Schoolbook"/>
              </a:rPr>
              <a:t>STEAG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5638680" y="4572000"/>
            <a:ext cx="1981440" cy="1484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38862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IMNU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3809880" cy="2819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724280" y="533520"/>
            <a:ext cx="3353040" cy="2549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320040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ff"/>
                </a:solidFill>
                <a:latin typeface="Century Schoolbook"/>
              </a:rPr>
              <a:t>Cat de bine cunostem Uniunea Europea</a:t>
            </a:r>
            <a:r>
              <a:rPr b="0" lang="en-US" sz="3600" spc="-1" strike="noStrike">
                <a:solidFill>
                  <a:srgbClr val="0000ff"/>
                </a:solidFill>
                <a:latin typeface="Century Schoolbook"/>
              </a:rPr>
              <a:t>na</a:t>
            </a:r>
            <a:r>
              <a:rPr b="0" lang="ro-RO" sz="3600" spc="-1" strike="noStrike">
                <a:solidFill>
                  <a:srgbClr val="0000ff"/>
                </a:solidFill>
                <a:latin typeface="Century Schoolbook"/>
              </a:rPr>
              <a:t> si rolul Romaniei in cadrul acestei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421020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3300"/>
                </a:solidFill>
                <a:latin typeface="Verdana"/>
              </a:rPr>
              <a:t>     </a:t>
            </a:r>
            <a:r>
              <a:rPr b="1" i="1" lang="en-US" sz="2400" spc="-1" strike="noStrike">
                <a:solidFill>
                  <a:srgbClr val="cc3300"/>
                </a:solidFill>
                <a:latin typeface="Century Schoolbook"/>
              </a:rPr>
              <a:t>“ </a:t>
            </a:r>
            <a:r>
              <a:rPr b="1" i="1" lang="en-US" sz="2400" spc="-1" strike="noStrike">
                <a:solidFill>
                  <a:srgbClr val="cc3300"/>
                </a:solidFill>
                <a:latin typeface="Century Schoolbook"/>
              </a:rPr>
              <a:t>Va veni o zi când voi francezii, voi rusii, voi italienii, voi englezii, voi germanii, voi toate naţiunile continentului, fără să vă pierdeţi calităţile distincte şi glorioasa voastră individualitate, veţi fonda împreună o uniune superioară şi veţi construi fraternitatea europeană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Century Schoolbook"/>
              </a:rPr>
              <a:t>                                    </a:t>
            </a:r>
            <a:r>
              <a:rPr b="1" i="1" lang="en-US" sz="2400" spc="-1" strike="noStrike">
                <a:solidFill>
                  <a:srgbClr val="cc3300"/>
                </a:solidFill>
                <a:latin typeface="Century Schoolbook"/>
              </a:rPr>
              <a:t>(Victor Hugo, 184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41907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61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332000" y="1844640"/>
            <a:ext cx="2519280" cy="244800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40000" y="2781360"/>
            <a:ext cx="3384360" cy="2808360"/>
          </a:xfrm>
          <a:prstGeom prst="ellipse">
            <a:avLst/>
          </a:prstGeom>
          <a:solidFill>
            <a:srgbClr val="ff99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907920"/>
            <a:ext cx="230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tinentu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11592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00"/>
                </a:solidFill>
                <a:latin typeface="Verdana"/>
              </a:rPr>
              <a:t>În prezent, Uniunea are 27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de</a:t>
            </a:r>
            <a:r>
              <a:rPr b="0" lang="ro-RO" sz="2400" spc="-1" strike="noStrike">
                <a:solidFill>
                  <a:srgbClr val="ffff00"/>
                </a:solidFill>
                <a:latin typeface="Verdana"/>
              </a:rPr>
              <a:t> membri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.</a:t>
            </a:r>
            <a:r>
              <a:rPr b="0" lang="ro-RO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124000" y="18432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99cc00"/>
                </a:solidFill>
                <a:latin typeface="Verdana"/>
              </a:rPr>
              <a:t>VALORILE UNIUNII EUROP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1197000"/>
            <a:ext cx="7777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cc66"/>
                </a:solidFill>
                <a:latin typeface="Verdana"/>
              </a:rPr>
              <a:t>1. Demnitatea uman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cc66"/>
                </a:solidFill>
                <a:latin typeface="Verdana"/>
              </a:rPr>
              <a:t>2. Libertatea individ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cc66"/>
                </a:solidFill>
                <a:latin typeface="Verdana"/>
              </a:rPr>
              <a:t>3. Democraţi</a:t>
            </a:r>
            <a:r>
              <a:rPr b="0" i="1" lang="en-US" sz="2000" spc="-1" strike="noStrike">
                <a:solidFill>
                  <a:srgbClr val="00cc66"/>
                </a:solidFill>
                <a:latin typeface="Verdan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cc66"/>
                </a:solidFill>
                <a:latin typeface="Verdana"/>
              </a:rPr>
              <a:t>4. Egalitate</a:t>
            </a:r>
            <a:r>
              <a:rPr b="0" i="1" lang="en-US" sz="2000" spc="-1" strike="noStrike">
                <a:solidFill>
                  <a:srgbClr val="00cc66"/>
                </a:solidFill>
                <a:latin typeface="Verdan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cc66"/>
                </a:solidFill>
                <a:latin typeface="Verdana"/>
              </a:rPr>
              <a:t>5. Statul de dr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cc66"/>
                </a:solidFill>
                <a:latin typeface="Verdana"/>
              </a:rPr>
              <a:t> </a:t>
            </a:r>
            <a:r>
              <a:rPr b="0" i="1" lang="ro-RO" sz="2000" spc="-1" strike="noStrike">
                <a:solidFill>
                  <a:srgbClr val="00cc66"/>
                </a:solidFill>
                <a:latin typeface="Verdana"/>
              </a:rPr>
              <a:t>6. Respectarea drepturilor om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" y="333360"/>
            <a:ext cx="768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00"/>
                </a:solidFill>
                <a:latin typeface="Verdana"/>
              </a:rPr>
              <a:t>1 ianuarie 2007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aderarea la UE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1" lang="ro-RO" sz="2800" spc="-1" strike="noStrike">
                <a:solidFill>
                  <a:srgbClr val="ff0066"/>
                </a:solidFill>
                <a:latin typeface="Verdana"/>
              </a:rPr>
              <a:t>România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devine </a:t>
            </a:r>
            <a:r>
              <a:rPr b="0" lang="ro-RO" sz="2800" spc="-1" strike="noStrike" u="sng">
                <a:solidFill>
                  <a:srgbClr val="cc0000"/>
                </a:solidFill>
                <a:uFillTx/>
                <a:latin typeface="Verdana"/>
              </a:rPr>
              <a:t>stat memb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8T20:20:36Z</dcterms:created>
  <dc:creator>simi</dc:creator>
  <dc:description/>
  <dc:language>en-US</dc:language>
  <cp:lastModifiedBy>Elev-2</cp:lastModifiedBy>
  <dcterms:modified xsi:type="dcterms:W3CDTF">2010-07-09T09:32:56Z</dcterms:modified>
  <cp:revision>4</cp:revision>
  <dc:subject/>
  <dc:title>ROMANIA TARA EUROPEANA  </dc:title>
</cp:coreProperties>
</file>