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BB7-8051-4E62-9D57-0278490C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5779-603C-43F9-8C1E-677C9BC42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1E1F-57F3-4191-8F93-C427FA0FF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ACF-7C90-4538-B7EE-6894D389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D05B-4E4A-4A34-B435-9CB277BD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8676-2736-4E36-8A13-8666BCF5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6C56-C102-409A-9C14-274E43CE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1FBF-B96A-4EC1-A740-6FDFF4DBF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270-08B0-4DBD-B011-904E3C43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FD0B-FCB9-4413-9ACA-31230D91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8FAA-CE10-4120-B9CD-2F90176A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6A17-9BBF-4BBB-B26D-C85FCB0D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81A1-3AC3-44E9-89CF-8A45B05F1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1981080" cy="198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6705720" y="1219320"/>
          <a:ext cx="2128680" cy="23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05720" y="1219320"/>
                    <a:ext cx="212868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Picture 2" descr="33.jpg"/>
          <p:cNvPicPr/>
          <p:nvPr/>
        </p:nvPicPr>
        <p:blipFill>
          <a:blip r:embed="rId4"/>
          <a:stretch/>
        </p:blipFill>
        <p:spPr>
          <a:xfrm>
            <a:off x="3276720" y="2057400"/>
            <a:ext cx="1531800" cy="1143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048120" y="533520"/>
            <a:ext cx="2361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EUROPA</a:t>
            </a:r>
            <a:endParaRPr b="0" lang="en-US" sz="2800" spc="1" strike="noStrike">
              <a:ln w="9360">
                <a:solidFill>
                  <a:srgbClr val="3333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47242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este suprafata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762120" y="3429000"/>
            <a:ext cx="805788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limitele continent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38080" y="3505320"/>
            <a:ext cx="805824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caracteristicile reliefului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590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33520" y="35053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tipurile de peisaje 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0880" y="3886200"/>
          <a:ext cx="4116600" cy="274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886200"/>
                    <a:ext cx="4116600" cy="27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4572000" y="4011480"/>
          <a:ext cx="4268880" cy="284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4011480"/>
                    <a:ext cx="4268880" cy="28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380880" y="2895480"/>
            <a:ext cx="805824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um a evoluat numarul de locuitori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3520" y="3733920"/>
            <a:ext cx="8057880" cy="97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regiunile geografice de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pe continentul european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23240" y="3565080"/>
            <a:ext cx="4249080" cy="3102120"/>
            <a:chOff x="2523240" y="3565080"/>
            <a:chExt cx="4249080" cy="3102120"/>
          </a:xfrm>
        </p:grpSpPr>
        <p:sp>
          <p:nvSpPr>
            <p:cNvPr id="62" name="_s16396"/>
            <p:cNvSpPr/>
            <p:nvPr/>
          </p:nvSpPr>
          <p:spPr>
            <a:xfrm flipH="1" flipV="1">
              <a:off x="3626280" y="4728600"/>
              <a:ext cx="510120" cy="19260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16395"/>
            <p:cNvSpPr/>
            <p:nvPr/>
          </p:nvSpPr>
          <p:spPr>
            <a:xfrm>
              <a:off x="2523240" y="414576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U.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6403"/>
            <p:cNvSpPr/>
            <p:nvPr/>
          </p:nvSpPr>
          <p:spPr>
            <a:xfrm flipH="1">
              <a:off x="362628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16402"/>
            <p:cNvSpPr/>
            <p:nvPr/>
          </p:nvSpPr>
          <p:spPr>
            <a:xfrm>
              <a:off x="252324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SITUATE ÎN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LINĂ ZONĂ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TEMPERAT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16401"/>
            <p:cNvSpPr/>
            <p:nvPr/>
          </p:nvSpPr>
          <p:spPr>
            <a:xfrm>
              <a:off x="4647960" y="5503680"/>
              <a:ext cx="0" cy="38664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16400"/>
            <p:cNvSpPr/>
            <p:nvPr/>
          </p:nvSpPr>
          <p:spPr>
            <a:xfrm>
              <a:off x="4057560" y="5891760"/>
              <a:ext cx="118080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PARALEL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45 GRADE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LAT. 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16399"/>
            <p:cNvSpPr/>
            <p:nvPr/>
          </p:nvSpPr>
          <p:spPr>
            <a:xfrm>
              <a:off x="5158800" y="530964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16398"/>
            <p:cNvSpPr/>
            <p:nvPr/>
          </p:nvSpPr>
          <p:spPr>
            <a:xfrm>
              <a:off x="5591160" y="5309640"/>
              <a:ext cx="118116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A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NEAGRĂ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16394"/>
            <p:cNvSpPr/>
            <p:nvPr/>
          </p:nvSpPr>
          <p:spPr>
            <a:xfrm flipV="1">
              <a:off x="5158800" y="4728960"/>
              <a:ext cx="510120" cy="19368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16393"/>
            <p:cNvSpPr/>
            <p:nvPr/>
          </p:nvSpPr>
          <p:spPr>
            <a:xfrm>
              <a:off x="5591160" y="4147200"/>
              <a:ext cx="1181160" cy="77544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MUNŢI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ARPAŢ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16392"/>
            <p:cNvSpPr/>
            <p:nvPr/>
          </p:nvSpPr>
          <p:spPr>
            <a:xfrm flipV="1">
              <a:off x="4647960" y="4340880"/>
              <a:ext cx="0" cy="387720"/>
            </a:xfrm>
            <a:prstGeom prst="line">
              <a:avLst/>
            </a:prstGeom>
            <a:ln w="40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16391"/>
            <p:cNvSpPr/>
            <p:nvPr/>
          </p:nvSpPr>
          <p:spPr>
            <a:xfrm>
              <a:off x="4057560" y="356508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DUNĂRE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16390"/>
            <p:cNvSpPr/>
            <p:nvPr/>
          </p:nvSpPr>
          <p:spPr>
            <a:xfrm>
              <a:off x="4057560" y="4728960"/>
              <a:ext cx="1180800" cy="775800"/>
            </a:xfrm>
            <a:prstGeom prst="ellipse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LEMENT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 </a:t>
              </a: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COMU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900" spc="-1" strike="noStrike">
                  <a:solidFill>
                    <a:srgbClr val="000000"/>
                  </a:solidFill>
                  <a:latin typeface="Century Schoolbook"/>
                </a:rPr>
                <a:t>EUROPA-</a:t>
              </a:r>
              <a:r>
                <a:rPr b="0" lang="ro-RO" sz="900" spc="-1" strike="noStrike">
                  <a:solidFill>
                    <a:srgbClr val="cc0000"/>
                  </a:solidFill>
                  <a:latin typeface="Century Schoolbook"/>
                </a:rPr>
                <a:t>RO</a:t>
              </a:r>
              <a:r>
                <a:rPr b="0" lang="ro-RO" sz="900" spc="-1" strike="noStrike">
                  <a:solidFill>
                    <a:srgbClr val="ffff00"/>
                  </a:solidFill>
                  <a:latin typeface="Century Schoolbook"/>
                </a:rPr>
                <a:t>MÂ</a:t>
              </a:r>
              <a:r>
                <a:rPr b="0" lang="ro-RO" sz="900" spc="-1" strike="noStrike">
                  <a:solidFill>
                    <a:srgbClr val="bbe0e3"/>
                  </a:solidFill>
                  <a:latin typeface="Century Schoolbook"/>
                </a:rPr>
                <a:t>NI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304920" y="2514600"/>
            <a:ext cx="8458200" cy="9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3333ff"/>
                </a:solidFill>
                <a:latin typeface="Book Antiqua"/>
              </a:rPr>
              <a:t>Care sunt elementele geografice comune Romaniei si Europei?</a:t>
            </a:r>
            <a:endParaRPr b="0" lang="en-US" sz="3200" spc="1" strike="noStrike">
              <a:ln w="9360">
                <a:solidFill>
                  <a:srgbClr val="3333ff"/>
                </a:solidFill>
                <a:miter/>
              </a:ln>
              <a:solidFill>
                <a:srgbClr val="3333ff"/>
              </a:solidFill>
              <a:latin typeface="Book Antiqua"/>
              <a:ea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v-2</cp:lastModifiedBy>
  <dcterms:modified xsi:type="dcterms:W3CDTF">2010-08-25T10:27:55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