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EEEF-F186-4A28-8A83-D12C10DBD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138C-1CA4-4A7F-8696-04E8729C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8960-F2B1-4F3F-B3E8-ACAD4A91D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7337-E92C-465E-A443-B2D5AD578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9CDF-D309-49E3-8B8D-62861B1C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5A5B-20A7-4111-AC9E-87274A43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FBE0-682E-48B1-87D3-E8E9DE73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0B27-3216-45AF-92C5-7EB64121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306B-659D-422E-BBA5-E44D8A71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9E61-DB29-44CE-89A6-2B4CBE53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0E8B-5A74-4326-A357-5C37DAB5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BFDB-5D8D-4DF7-8003-EE17EE91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E05F-EC74-4178-BD93-3C53FB05C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1981080" cy="1981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6705720" y="1219320"/>
          <a:ext cx="2128680" cy="234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05720" y="1219320"/>
                    <a:ext cx="212868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Picture 2" descr="33.jpg"/>
          <p:cNvPicPr/>
          <p:nvPr/>
        </p:nvPicPr>
        <p:blipFill>
          <a:blip r:embed="rId4"/>
          <a:stretch/>
        </p:blipFill>
        <p:spPr>
          <a:xfrm>
            <a:off x="3276720" y="205740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048120" y="533520"/>
            <a:ext cx="2361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UROPA</a:t>
            </a:r>
            <a:endParaRPr b="0" lang="en-US" sz="2800" spc="1" strike="noStrike">
              <a:ln w="9360">
                <a:solidFill>
                  <a:srgbClr val="3333ff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4724280"/>
            <a:ext cx="805824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Care este suprafata continentului european?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762120" y="3429000"/>
            <a:ext cx="805788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Care sunt limitele continentului european?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838080" y="3505320"/>
            <a:ext cx="8058240" cy="97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Care sunt caracteristicile reliefului european?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533520" y="3505320"/>
            <a:ext cx="8057880" cy="97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Care sunt tipurile de peisaje 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pe continentul european?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80880" y="3886200"/>
          <a:ext cx="4116600" cy="274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86200"/>
                    <a:ext cx="4116600" cy="27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4572000" y="4011480"/>
          <a:ext cx="4268880" cy="284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4011480"/>
                    <a:ext cx="4268880" cy="28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80880" y="2895480"/>
            <a:ext cx="805824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Cum a evoluat numarul de locuitori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pe continentul european?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533520" y="3733920"/>
            <a:ext cx="8057880" cy="97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Care sunt regiunile geografice de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pe continentul european?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2523240" y="3565080"/>
            <a:ext cx="4249080" cy="3102120"/>
            <a:chOff x="2523240" y="3565080"/>
            <a:chExt cx="4249080" cy="3102120"/>
          </a:xfrm>
        </p:grpSpPr>
        <p:sp>
          <p:nvSpPr>
            <p:cNvPr id="62" name="_s16396"/>
            <p:cNvSpPr/>
            <p:nvPr/>
          </p:nvSpPr>
          <p:spPr>
            <a:xfrm flipH="1" flipV="1">
              <a:off x="3626280" y="4728600"/>
              <a:ext cx="510120" cy="192600"/>
            </a:xfrm>
            <a:prstGeom prst="line">
              <a:avLst/>
            </a:prstGeom>
            <a:ln w="40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6395"/>
            <p:cNvSpPr/>
            <p:nvPr/>
          </p:nvSpPr>
          <p:spPr>
            <a:xfrm>
              <a:off x="2523240" y="4145760"/>
              <a:ext cx="1181160" cy="775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U.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6403"/>
            <p:cNvSpPr/>
            <p:nvPr/>
          </p:nvSpPr>
          <p:spPr>
            <a:xfrm flipH="1">
              <a:off x="3626280" y="5309640"/>
              <a:ext cx="510120" cy="193680"/>
            </a:xfrm>
            <a:prstGeom prst="line">
              <a:avLst/>
            </a:prstGeom>
            <a:ln w="40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6402"/>
            <p:cNvSpPr/>
            <p:nvPr/>
          </p:nvSpPr>
          <p:spPr>
            <a:xfrm>
              <a:off x="2523240" y="5309640"/>
              <a:ext cx="1181160" cy="775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SITUATE ÎN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PLINĂ ZONĂ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TEMPERATĂ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6401"/>
            <p:cNvSpPr/>
            <p:nvPr/>
          </p:nvSpPr>
          <p:spPr>
            <a:xfrm>
              <a:off x="4647960" y="5503680"/>
              <a:ext cx="0" cy="386640"/>
            </a:xfrm>
            <a:prstGeom prst="line">
              <a:avLst/>
            </a:prstGeom>
            <a:ln w="40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6400"/>
            <p:cNvSpPr/>
            <p:nvPr/>
          </p:nvSpPr>
          <p:spPr>
            <a:xfrm>
              <a:off x="4057560" y="5891760"/>
              <a:ext cx="1180800" cy="775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PARALELA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45 GRAD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LAT. 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6399"/>
            <p:cNvSpPr/>
            <p:nvPr/>
          </p:nvSpPr>
          <p:spPr>
            <a:xfrm>
              <a:off x="5158800" y="5309640"/>
              <a:ext cx="510120" cy="193680"/>
            </a:xfrm>
            <a:prstGeom prst="line">
              <a:avLst/>
            </a:prstGeom>
            <a:ln w="40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6398"/>
            <p:cNvSpPr/>
            <p:nvPr/>
          </p:nvSpPr>
          <p:spPr>
            <a:xfrm>
              <a:off x="5591160" y="5309640"/>
              <a:ext cx="1181160" cy="775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MARE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NEAGRĂ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6394"/>
            <p:cNvSpPr/>
            <p:nvPr/>
          </p:nvSpPr>
          <p:spPr>
            <a:xfrm flipV="1">
              <a:off x="5158800" y="4728960"/>
              <a:ext cx="510120" cy="193680"/>
            </a:xfrm>
            <a:prstGeom prst="line">
              <a:avLst/>
            </a:prstGeom>
            <a:ln w="40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6393"/>
            <p:cNvSpPr/>
            <p:nvPr/>
          </p:nvSpPr>
          <p:spPr>
            <a:xfrm>
              <a:off x="5591160" y="4147200"/>
              <a:ext cx="1181160" cy="775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MUNŢII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CARPAŢ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6392"/>
            <p:cNvSpPr/>
            <p:nvPr/>
          </p:nvSpPr>
          <p:spPr>
            <a:xfrm flipV="1">
              <a:off x="4647960" y="4340880"/>
              <a:ext cx="0" cy="387720"/>
            </a:xfrm>
            <a:prstGeom prst="line">
              <a:avLst/>
            </a:prstGeom>
            <a:ln w="40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6391"/>
            <p:cNvSpPr/>
            <p:nvPr/>
          </p:nvSpPr>
          <p:spPr>
            <a:xfrm>
              <a:off x="4057560" y="3565080"/>
              <a:ext cx="1180800" cy="775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DUNĂRE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6390"/>
            <p:cNvSpPr/>
            <p:nvPr/>
          </p:nvSpPr>
          <p:spPr>
            <a:xfrm>
              <a:off x="4057560" y="4728960"/>
              <a:ext cx="1180800" cy="775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ELEMEN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 </a:t>
              </a: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COMU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EUROPA-</a:t>
              </a:r>
              <a:r>
                <a:rPr b="0" lang="ro-RO" sz="900" spc="-1" strike="noStrike">
                  <a:solidFill>
                    <a:srgbClr val="cc0000"/>
                  </a:solidFill>
                  <a:latin typeface="Century Schoolbook"/>
                </a:rPr>
                <a:t>RO</a:t>
              </a:r>
              <a:r>
                <a:rPr b="0" lang="ro-RO" sz="900" spc="-1" strike="noStrike">
                  <a:solidFill>
                    <a:srgbClr val="ffff00"/>
                  </a:solidFill>
                  <a:latin typeface="Century Schoolbook"/>
                </a:rPr>
                <a:t>MÂ</a:t>
              </a:r>
              <a:r>
                <a:rPr b="0" lang="ro-RO" sz="900" spc="-1" strike="noStrike">
                  <a:solidFill>
                    <a:srgbClr val="bbe0e3"/>
                  </a:solidFill>
                  <a:latin typeface="Century Schoolbook"/>
                </a:rPr>
                <a:t>N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304920" y="2514600"/>
            <a:ext cx="845820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Care sunt elementele geografice comune Romaniei si Europei?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v-2</cp:lastModifiedBy>
  <dcterms:modified xsi:type="dcterms:W3CDTF">2010-08-25T10:27:5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