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4B3-B44C-4398-8948-8FD27AE66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82F-296F-4D30-89E9-2BC1AFCE6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2EC5-C68F-4AE5-8872-BE6D9375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B896-E1FA-4ED4-BD14-41E3161E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7CF-FB01-47AE-A337-B73D3E2E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305-9E40-49F5-AF54-3EDF144D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7434-EA70-46B7-9318-64096BCA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CCAA-B6F2-4732-87B6-0B7F01C0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3CC4-7D89-4E91-A138-B5857C76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6E3-1900-4A73-8B98-856B2788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13F4-6A5B-45EB-BE9F-E58224CA1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512E-2F48-4337-AD80-38EE0019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0E7B-14DA-4F26-9255-C422BBE3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705720" y="1219320"/>
          <a:ext cx="21286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1219320"/>
                    <a:ext cx="2128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2" descr="33.jpg"/>
          <p:cNvPicPr/>
          <p:nvPr/>
        </p:nvPicPr>
        <p:blipFill>
          <a:blip r:embed="rId4"/>
          <a:stretch/>
        </p:blipFill>
        <p:spPr>
          <a:xfrm>
            <a:off x="3276720" y="205740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8120" y="53352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UROPA</a:t>
            </a:r>
            <a:endParaRPr b="0" lang="en-US" sz="28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47242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este suprafata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3429000"/>
            <a:ext cx="80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limitele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38080" y="3505320"/>
            <a:ext cx="80582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caracteristicile relief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5053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tipurile de peisaje 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886200"/>
          <a:ext cx="41166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1166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4011480"/>
          <a:ext cx="42688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11480"/>
                    <a:ext cx="4268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28954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um a evoluat numarul de locuitori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3520" y="37339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regiunile geografice de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23240" y="3565080"/>
            <a:ext cx="4249080" cy="3102120"/>
            <a:chOff x="2523240" y="3565080"/>
            <a:chExt cx="4249080" cy="3102120"/>
          </a:xfrm>
        </p:grpSpPr>
        <p:sp>
          <p:nvSpPr>
            <p:cNvPr id="62" name="_s16396"/>
            <p:cNvSpPr/>
            <p:nvPr/>
          </p:nvSpPr>
          <p:spPr>
            <a:xfrm flipH="1" flipV="1">
              <a:off x="3626280" y="4728600"/>
              <a:ext cx="510120" cy="19260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6395"/>
            <p:cNvSpPr/>
            <p:nvPr/>
          </p:nvSpPr>
          <p:spPr>
            <a:xfrm>
              <a:off x="2523240" y="414576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U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6403"/>
            <p:cNvSpPr/>
            <p:nvPr/>
          </p:nvSpPr>
          <p:spPr>
            <a:xfrm flipH="1">
              <a:off x="362628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6402"/>
            <p:cNvSpPr/>
            <p:nvPr/>
          </p:nvSpPr>
          <p:spPr>
            <a:xfrm>
              <a:off x="252324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SITUATE Î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LINĂ ZON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TEMPERAT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6401"/>
            <p:cNvSpPr/>
            <p:nvPr/>
          </p:nvSpPr>
          <p:spPr>
            <a:xfrm>
              <a:off x="4647960" y="5503680"/>
              <a:ext cx="0" cy="38664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6400"/>
            <p:cNvSpPr/>
            <p:nvPr/>
          </p:nvSpPr>
          <p:spPr>
            <a:xfrm>
              <a:off x="4057560" y="5891760"/>
              <a:ext cx="118080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ARALEL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45 GRA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LAT. 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6399"/>
            <p:cNvSpPr/>
            <p:nvPr/>
          </p:nvSpPr>
          <p:spPr>
            <a:xfrm>
              <a:off x="515880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6398"/>
            <p:cNvSpPr/>
            <p:nvPr/>
          </p:nvSpPr>
          <p:spPr>
            <a:xfrm>
              <a:off x="559116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NEAGR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6394"/>
            <p:cNvSpPr/>
            <p:nvPr/>
          </p:nvSpPr>
          <p:spPr>
            <a:xfrm flipV="1">
              <a:off x="5158800" y="472896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5591160" y="4147200"/>
              <a:ext cx="118116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UNŢI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ARPAŢ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6392"/>
            <p:cNvSpPr/>
            <p:nvPr/>
          </p:nvSpPr>
          <p:spPr>
            <a:xfrm flipV="1">
              <a:off x="4647960" y="4340880"/>
              <a:ext cx="0" cy="38772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6391"/>
            <p:cNvSpPr/>
            <p:nvPr/>
          </p:nvSpPr>
          <p:spPr>
            <a:xfrm>
              <a:off x="4057560" y="356508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DUNĂ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6390"/>
            <p:cNvSpPr/>
            <p:nvPr/>
          </p:nvSpPr>
          <p:spPr>
            <a:xfrm>
              <a:off x="4057560" y="472896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LEM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OMU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UROPA-</a:t>
              </a:r>
              <a:r>
                <a:rPr b="0" lang="ro-RO" sz="900" spc="-1" strike="noStrike">
                  <a:solidFill>
                    <a:srgbClr val="cc0000"/>
                  </a:solidFill>
                  <a:latin typeface="Century Schoolbook"/>
                </a:rPr>
                <a:t>RO</a:t>
              </a:r>
              <a:r>
                <a:rPr b="0" lang="ro-RO" sz="900" spc="-1" strike="noStrike">
                  <a:solidFill>
                    <a:srgbClr val="ffff00"/>
                  </a:solidFill>
                  <a:latin typeface="Century Schoolbook"/>
                </a:rPr>
                <a:t>MÂ</a:t>
              </a:r>
              <a:r>
                <a:rPr b="0" lang="ro-RO" sz="900" spc="-1" strike="noStrike">
                  <a:solidFill>
                    <a:srgbClr val="bbe0e3"/>
                  </a:solidFill>
                  <a:latin typeface="Century Schoolbook"/>
                </a:rPr>
                <a:t>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04920" y="2514600"/>
            <a:ext cx="8458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elementele geografice comune Romaniei si Europei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-2</cp:lastModifiedBy>
  <dcterms:modified xsi:type="dcterms:W3CDTF">2010-08-25T10:27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